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24D-92F9-4FBD-9B3E-6B53DCC4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946-7D8F-408B-B36E-E4948213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A40-7051-4935-8CE3-33CE99C5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758-2B45-4D23-83C7-E8543D92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C23-075B-4254-8148-656276C0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03E-06EC-40DB-A778-9EDA89EF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8A0-4608-443A-A626-5CD3C0A1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FAE-F2D4-4885-B14F-7CF54BA0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589-75D2-4560-B13A-B4AAB35C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DA4-AA7F-4D6B-8365-96E1E8E7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532-D7E3-4AB4-A7B0-56F0FA32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287-CA3C-4FDE-BE40-23AF4EB7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F108-BA4A-48FC-8F55-7ECA50E6B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ffff00"/>
                </a:solidFill>
                <a:latin typeface="Pristina"/>
              </a:rPr>
              <a:t>Poetry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Pristina"/>
              </a:rPr>
              <a:t>What is Poetry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Poetry is written in stanzas (verses) that engage the reader through imagery, repetition, humor, rhyming, patterns, and rhyth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There are many different ways to write poe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00"/>
                </a:solidFill>
                <a:latin typeface="Pristina"/>
              </a:rPr>
              <a:t>Imagery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1430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uthor uses language that allows the reader to create a clear, detailed images in their minds as they re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ry is created through comparing objects or describing objects by using the five sen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105520" y="533520"/>
            <a:ext cx="3733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My Snow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By Neal 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My snowman had a lemon nose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And lemons for his ears.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His eyes were made of lemon slices,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Hair of lemon spe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His teeth were candy lemon drops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That smiled in the shade,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But then the sun came out and turned him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Into lemon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00"/>
                </a:solidFill>
                <a:latin typeface="Pristina"/>
              </a:rPr>
              <a:t>Narrativ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ve poems tell a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ory may be fiction or non-f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486400" y="609480"/>
          <a:ext cx="3124080" cy="548640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7152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leeping Beau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leeping Beauty pricked her thumb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tarted feeling overcom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Probably she would have 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as the witch had prophesied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but the fairies had her ble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o she just got beauty re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For a hundred fifty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he missed balls and film premiere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till Prince Charming came a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inging out a cheerful so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Kneeling down he kissed her ch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hoping that she'd wake and spea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leeping Beauty raised an 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reaching for the snooze al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and her waking words were thes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"Just need five more minutes please.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--Kenn Nesbi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419720" y="1143000"/>
            <a:ext cx="441936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Pristina"/>
              </a:rPr>
              <a:t>Free Vers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952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E VER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kind of poetry that has no real rhythm or pattern, so you can put words together in all sorts of way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 verse poetry allows the writer to be freely creative with their po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419720" y="1143000"/>
            <a:ext cx="4419360" cy="4757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Autumn</a:t>
            </a:r>
            <a:br>
              <a:rPr sz="1800"/>
            </a:br>
            <a:r>
              <a:rPr b="1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by Fern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Blowing bris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Leaves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We 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Colored l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P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And j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Pristina"/>
              </a:rPr>
              <a:t>Humoro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hors add humor to their poetry to make the reader laugh and connect to the po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800600" y="228600"/>
          <a:ext cx="3889440" cy="601344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6326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I Bought Our Cat a Jetp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I bought our cat a jetp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which I think she liked a lo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he strapped it on and instan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he took off like a sho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he zoomed around my bed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then she blasted down the ha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he ricocheted off every pi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of furniture and wa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Our dog freaked out and ran aw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Our hamster squeaked and fl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I even saw my sister hi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underneath her b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Our cat is so fired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I almost hate to break the new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he'll never catch our mouse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I bought him rocket powered sho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--Kenn Nesbi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ristina"/>
              </a:rPr>
              <a:t>Poetry may…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 rhyming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ill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 certain rhythm (fast or s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repeated phrases or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a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a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emo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0:35:22Z</dcterms:created>
  <dc:creator>127hollandm</dc:creator>
  <dc:description/>
  <dc:language>en-US</dc:language>
  <cp:lastModifiedBy>127ramirezc</cp:lastModifiedBy>
  <dcterms:modified xsi:type="dcterms:W3CDTF">2009-10-15T12:09:52Z</dcterms:modified>
  <cp:revision>8</cp:revision>
  <dc:subject/>
  <dc:title>Poetry</dc:title>
</cp:coreProperties>
</file>